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80CD-2936-436D-90A3-F94640A29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 ontology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is by its nature intertwined with C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GO by the process and its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GO by the process and its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 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u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do not have cerebral corext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113-B5A2-4BD9-B4A7-E1D94A3B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BA1-EF72-4D4E-81E6-81F60E70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60E-D6A6-4099-BBCA-8F6E3541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BAC-E83F-4E19-8456-1F6337B2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4A3-0250-44AF-AE44-816D33EF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06E-12F7-483A-A01A-C7A64CBF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960-7CB0-4414-A486-98C5492C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DF6-F31E-4BFD-9966-637C4B1A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E1E-43E8-484E-8F0B-A7D50C60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45D-3599-4607-B8F7-7E3E8CE8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7C0-7CE6-41B9-9DE4-C230C2C7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508-5C31-4479-ADE1-54CE6C09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5AE4-AB5D-407D-8C22-A3150BD32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pplication of OBO Foundry Principles in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590920"/>
            <a:ext cx="7086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CB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Consorti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both reference and applicatio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same artefact (i.e. file) is used for both ontology editing and data annot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s has worked reasonably well until n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ay encourage making a disti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 views (aka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GO slim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only used to present a very small subset of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sider wider use for extracting most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 in GO (curren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forms to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part_of Y: all Xs are part_of some Y (for the entirety of the duration of the existence of the X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nucleus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cell (all nuclei are always part_of a cell, not all cells have a nucleus as par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 both continuants and process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o ordering for process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rt-of conforms to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is_a Y: all Xs are Ys (for the entirety of Xs existenc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t there are issues with is_a in GO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incompletene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polyhierarch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 a has issu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t all GO types hav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a problem in M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xed in CC (July 2006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ing fixed in BP (Sept 2006: right now, here in Seattl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ill a contentious issu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ompletion requires new high-level types i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ceived as being too abstract by biologis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mple solution: applicatio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move high level terms in annotation view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polyhierarch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iamonds cause probl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DAGs, easy to make mistak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urce of problems typically due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ultiple axes of classifi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ue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osite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us - differentia (aristotelian)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ka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cross-products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[Hill et al]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ways a single gen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oose consistent axis of classifi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 classifier/reasoner to provide different views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53680" y="4648320"/>
            <a:ext cx="31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 tangled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i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" y="4572000"/>
            <a:ext cx="250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ixes (at le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two </a:t>
            </a: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ax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86400" y="457200"/>
            <a:ext cx="12952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143000"/>
            <a:ext cx="14479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1752480"/>
            <a:ext cx="144756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438280"/>
            <a:ext cx="6094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657600"/>
            <a:ext cx="1828800" cy="838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1840" y="457200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43200" y="457200"/>
            <a:ext cx="17524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400" y="1143000"/>
            <a:ext cx="7632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828800"/>
            <a:ext cx="763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360" y="2438280"/>
            <a:ext cx="10666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solution: separate the ax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181480"/>
            <a:ext cx="350496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352680"/>
            <a:ext cx="182880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828800"/>
            <a:ext cx="1828800" cy="37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metabolism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3429000"/>
            <a:ext cx="1828800" cy="373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(ChE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676520"/>
            <a:ext cx="1851120" cy="912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serine family amino acid (ChE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599840" y="3733560"/>
            <a:ext cx="1219320" cy="190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24480" y="3809520"/>
            <a:ext cx="129564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4792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620120" y="2285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320" y="5486400"/>
            <a:ext cx="182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comp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genus-differen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52480" y="5943600"/>
            <a:ext cx="1067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ute the subsumption DAG from the defin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181480"/>
            <a:ext cx="350496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12408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metabolism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048120"/>
            <a:ext cx="245736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serine family amino acid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86000" y="3580920"/>
            <a:ext cx="18288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3657240"/>
            <a:ext cx="16765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86000" y="2133360"/>
            <a:ext cx="14479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105160" y="2209320"/>
            <a:ext cx="11430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53000" y="4419720"/>
            <a:ext cx="290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DAG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ch as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 (MF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 (BP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 (CC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and post-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ferences to types can be pre-composed in ontology, prior to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y editor creates term, with 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 reasoners to classify the DAG automatical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ferences to types can be post-composed (created on the fly) at annotation ti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term with ID is cre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utationally,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t makes no differ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d we adhere to the genus-differentia formalis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Foundry practices and pre-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e-composition of terms in the ontology is good as it creates a map of biological reality, linking foundry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in reas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Biological Process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OBO C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neuro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cone cell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 fate specifi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T cel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homeosta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rythroc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granu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O Cell is species-neutr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ability to effectively created computationally visible genus-differentia definitions is new to most OB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on to be creat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 (many terms now don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definitions referencing OBO-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Disease definitions referencing F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icul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and ChEBI (chemical entiti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and anatomy (we need CARO!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ment in GO (current)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1480" y="175248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571640" y="2133720"/>
            <a:ext cx="1676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657600" y="2133720"/>
            <a:ext cx="533520" cy="22860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1080" y="6477120"/>
            <a:ext cx="136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is_a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not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ment in GO (future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20" y="220968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resumptive 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6400" y="274320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720" y="32004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k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9440" y="365760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1800" y="4191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1880" y="48769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16765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676160" y="441936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676160" y="3962520"/>
            <a:ext cx="464796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599840" y="297144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600200" y="2514600"/>
            <a:ext cx="464832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33360" y="6553080"/>
            <a:ext cx="106668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07440" y="62485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has_particip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440" y="5622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5638680"/>
            <a:ext cx="38102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Genus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tube 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Differentia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46483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41480" y="175248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571640" y="2133720"/>
            <a:ext cx="1676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657600" y="2133720"/>
            <a:ext cx="533520" cy="22860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occurr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n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 of </a:t>
            </a:r>
            <a:r>
              <a:rPr b="0" lang="en-US" sz="4400" spc="-1" strike="noStrike">
                <a:solidFill>
                  <a:srgbClr val="0000ff"/>
                </a:solidFill>
                <a:latin typeface="Gill Sans"/>
              </a:rPr>
              <a:t>canonical biolog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occurr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n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"/>
          <p:cNvSpPr/>
          <p:nvPr/>
        </p:nvSpPr>
        <p:spPr>
          <a:xfrm>
            <a:off x="6154200" y="326088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ogen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92160" y="3048120"/>
            <a:ext cx="67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4040" y="5486400"/>
            <a:ext cx="38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 regene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63400" y="5638680"/>
            <a:ext cx="148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y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2200" y="5500800"/>
            <a:ext cx="299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sition of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103680" y="5562720"/>
            <a:ext cx="148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y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Gill Sans"/>
              </a:rPr>
              <a:t>canonic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Gill Sans"/>
              </a:rPr>
              <a:t>species-neutr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core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e shared processes (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ranscrip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es specific to organism types (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in development, fly courtship behaviou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karyotes and eukaryo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62120" y="152280"/>
          <a:ext cx="587664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58766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165800" y="271440"/>
            <a:ext cx="11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343400"/>
            <a:ext cx="320040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457200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472428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487692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10552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25780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724280"/>
            <a:ext cx="838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91440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514600"/>
            <a:ext cx="838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ranularity of the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1981080"/>
          <a:ext cx="8153280" cy="4224600"/>
        </p:xfrm>
        <a:graphic>
          <a:graphicData uri="http://schemas.openxmlformats.org/drawingml/2006/table">
            <a:tbl>
              <a:tblPr/>
              <a:tblGrid>
                <a:gridCol w="2235240"/>
                <a:gridCol w="1973160"/>
                <a:gridCol w="1971720"/>
                <a:gridCol w="19731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ntinu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ole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M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Sub?)Cel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rganis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 ontology, with rich terminological featur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‘terms’ are actually representations of types (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k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kinds, universals, class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erms (i.e. the phrases used by biologists) are attached to the representations of types a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na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ynonyms hav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linguistic relation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to the GO 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ct, broad, narrow, relat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stinct from ontological relations between GO 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s_a, part_of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is moving to genus-differentia style defin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ny definitions are still dictionary-style, terminologic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scribe how th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er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us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us differentia defin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2666880"/>
            <a:ext cx="5486400" cy="221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entral nervous system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entral nerv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The process by which the </a:t>
            </a:r>
            <a:r>
              <a:rPr b="0" i="1" lang="en-US" sz="1600" spc="-1" strike="noStrike">
                <a:solidFill>
                  <a:srgbClr val="ff0000"/>
                </a:solidFill>
                <a:latin typeface="Gill Sans"/>
              </a:rPr>
              <a:t>anatomical structure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of the </a:t>
            </a:r>
            <a:r>
              <a:rPr b="0" i="1" lang="en-US" sz="1600" spc="-1" strike="noStrike" u="sng">
                <a:solidFill>
                  <a:srgbClr val="0000ff"/>
                </a:solidFill>
                <a:uFillTx/>
                <a:latin typeface="Gill Sans"/>
              </a:rPr>
              <a:t>central nervous system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is </a:t>
            </a:r>
            <a:r>
              <a:rPr b="0" i="1" lang="en-US" sz="1600" spc="-1" strike="noStrike">
                <a:solidFill>
                  <a:srgbClr val="ff0000"/>
                </a:solidFill>
                <a:latin typeface="Gill Sans"/>
              </a:rPr>
              <a:t>generated and orga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9-08T21:13:56Z</dcterms:modified>
  <cp:revision>670</cp:revision>
  <dc:subject/>
  <dc:title>Ontologies for biological annotation</dc:title>
</cp:coreProperties>
</file>